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1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2675-C23D-4646-8971-A29AD9F87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001D-117D-49D7-8050-490787C70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AE20-9581-4DA7-929C-13CB26F99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4B84-B02F-400B-AC8C-1148ECAEF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921B-9AC0-4FF3-9AFD-B2CA72EFA6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AF8D7-A04A-4CF9-BBA7-5304C03D60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BAE5F-BABE-401B-A80D-ACC9806DF4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980A5-74C9-439A-B3A2-FC2408B631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C1BC2-2E75-49E6-A97D-6A10C48A1F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597D0-0390-478A-B20A-2423F696A9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AB43-4997-4C0D-AD26-EFBAEF7BF3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1BFD-5525-4E49-BE0A-2F28D67BB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3BEB-95ED-432E-9E0E-A1B95E22BB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F5572-CFA1-4F39-9FCA-4C54D0F6B9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8419-1171-48AE-B231-4E46EACE64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EC79-5D47-4F0C-A2E9-E7C0D64E57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8B454-0E6B-4A85-989D-17D2DA015D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CEB4-14F9-41F5-B1C3-7F0CF01CC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DD56-1BB2-4C23-A686-550FE3354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8C86-41C9-4D19-A964-EE14C9620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505F-A078-48C2-99C5-96C70C186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2EE7-E3D9-4BA8-B8E4-1CFAA3C19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3FDA-8105-4750-A6A4-CA5FFD2B3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4B7B-D8DE-4406-B8EC-8861E9C3B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>
                        <a:gd name="textAreaLeft" fmla="*/ 0 w 198720"/>
                        <a:gd name="textAreaRight" fmla="*/ 199080 w 198720"/>
                        <a:gd name="textAreaTop" fmla="*/ 0 h 276120"/>
                        <a:gd name="textAreaBottom" fmla="*/ 276480 h 2761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>
                <a:gd name="textAreaLeft" fmla="*/ 0 w 1187280"/>
                <a:gd name="textAreaRight" fmla="*/ 1187280 w 11872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996920"/>
                <a:gd name="textAreaBottom" fmla="*/ 1997280 h 19969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5040"/>
                <a:gd name="textAreaBottom" fmla="*/ 5045400 h 50450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2480"/>
                <a:gd name="textAreaBottom" fmla="*/ 200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1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1AB77-DC79-42B8-BD25-4110EEE5153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>
                        <a:gd name="textAreaLeft" fmla="*/ 0 w 198720"/>
                        <a:gd name="textAreaRight" fmla="*/ 199080 w 198720"/>
                        <a:gd name="textAreaTop" fmla="*/ 0 h 276120"/>
                        <a:gd name="textAreaBottom" fmla="*/ 276480 h 2761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>
                <a:gd name="textAreaLeft" fmla="*/ 0 w 1187280"/>
                <a:gd name="textAreaRight" fmla="*/ 1187280 w 11872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996920"/>
                <a:gd name="textAreaBottom" fmla="*/ 1997280 h 19969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5040"/>
                <a:gd name="textAreaBottom" fmla="*/ 5045400 h 50450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2480"/>
                <a:gd name="textAreaBottom" fmla="*/ 200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400"/>
            <a:ext cx="7383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2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DB1C3EC-D7C4-4CB2-9186-02E99138AAC4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lenagold.ru/fon/clipart/m/mork/mork18.png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img0.liveinternet.ru/images/attach/c/7/94/575/94575304_565490722.jpg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swetlanka.ru/wp-content/uploads/2009/04/zaya.gif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happiness-shop.ru/userfiles/image/test_folder/2-parachute-v-nebe-1024.jpg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img0.liveinternet.ru/images/attach/c/0/44/45/44045020_1242642872_4.jpg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img0.liveinternet.ru/images/attach/c/3/76/80/76080094_21.jpg" TargetMode="External"/><Relationship Id="rId13" Type="http://schemas.openxmlformats.org/officeDocument/2006/relationships/image" Target="../media/image3.png"/><Relationship Id="rId14" Type="http://schemas.openxmlformats.org/officeDocument/2006/relationships/hyperlink" Target="http://www.nadietax.com/uploads/posts/2013-05/2013-09/1378723867_Tykva.png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63520" y="304920"/>
            <a:ext cx="73864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е с произведениями малых фольклорных жанров – пословицей, поговоркой и загад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интерес к произведениям народного твор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отгадывать загадки, сравнивать предмет загадки и предмет отгадки, выделять признаки предмета, на которые указывает загад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мулировать проявление творческой активности детей при отгадывании загадок и составлении своих собств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9240" y="204840"/>
            <a:ext cx="747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Малые фольклорные жанры устного народного твор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3520" y="1598760"/>
            <a:ext cx="73864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га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ыражение, в котором один предмет изображается посредством другого, имеющего с ним какое-нибудь, хотя бы отдалённое, сход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малая форма народного поэтического творчества, облачённая в краткое, ритмизованное изречение, несущее обобщённую мысль, вывод, иносказание с поучительным уклон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овор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ловосочетание, оборот речи, отражающий какое-либо явление жизни. Часто имеет юмористический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8954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85716"/>
                </a:solidFill>
                <a:latin typeface="Arial"/>
              </a:rPr>
              <a:t>Сидит красная девица в темниц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85716"/>
                </a:solidFill>
                <a:latin typeface="Arial"/>
              </a:rPr>
              <a:t>а коса на у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4497480"/>
            <a:ext cx="3581280" cy="1439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572000" y="3886200"/>
            <a:ext cx="23511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2895480"/>
            <a:ext cx="472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ленький, беленький, 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 лесочку прыг-прыг! 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 снежочку тык-тык!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419720" y="3505320"/>
            <a:ext cx="250488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8954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д лугом парашютики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ачаются на прутике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1729080" cy="2590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495680" y="27432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19240" y="204840"/>
            <a:ext cx="747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Что можно сказать о людях, сочинивших такие загад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атель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ич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их богатое вооб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Составление зага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520" y="1598760"/>
            <a:ext cx="73864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етр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свёк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тык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429000" y="129528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971800" y="2819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2590920" y="468648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Продолж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3716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пеши язык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13716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опись д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438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ером пиш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2438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5053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й боль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35053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45720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енькое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45720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больш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дел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56386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 маст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56386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ва и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ковь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lenagold.ru/fon/clipart/m/mork/mork18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девушки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img0.liveinternet.ru/images/attach/c/7/94/575/94575304_56549072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5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йк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swetlanka.ru/wp-content/uploads/2009/04/zaya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7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шют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www.happiness-shop.ru/userfiles/image/test_folder/2-parachute-v-nebe-102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9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ушк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img0.liveinternet.ru/images/attach/c/0/44/45/44045020_1242642872_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ёкл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img0.liveinternet.ru/images/attach/c/3/76/80/76080094_2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кв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www.nadietax.com/uploads/posts/2013-05/2013-09/1378723867_Tykva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9-16T09:22:5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